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BB6-C93E-4D6A-942D-D19DBF02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387-9DB6-4A71-A17A-D43DC51D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246-4C33-47B1-8817-8063ED20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A86-0BE4-4A13-A9AF-3BDBDC40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756-EF5C-4F7F-B504-ED3891F7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6CD-436F-436E-9E3A-B4C6E7AA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290-0E43-4FC8-88D3-38F7C053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2CC-51DC-4721-9753-B31F9868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CF6-4DF7-47D6-9DED-56C30304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718-EB22-4D70-A6C0-BDCEFD1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FE4-60DA-4E3C-8B7A-7EBBE23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8FC-4ABD-4808-892E-D5CD0D5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29AE-3BBC-4FAF-B3E4-92888C4E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F Kennedy Inaugural Addr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ag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ot just going to provide freedom to these new developing nations in order to prevent the spread of communism. (paragraph 1 and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essage to the Soviet Union saying that we need to pursue peace. (paragraph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JFK shows negotiating as civilized progress towards our goals instead of a weakness. (paragraph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JFK speaks of how we must not look at our differences but instead learn to solve the common problems that are present in our soc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uclear regulatory commit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reedom throughout the world for every single individual. (paragraph 8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ph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metab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toric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d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ynde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est and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tholic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a large position he had to pull during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relations with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the development of nuclea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the spread of communism (secretive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the respect and support of the 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(stop the development of nuclear w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at the Capitol (red s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(stop the spread of communi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n over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d over the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people heard the speech even from othe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government restrictions within the Soviet Union those in USSR did not view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App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thos ( credibility of speaker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g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FK respectfully acknowledges all the prominent and average citizens at his inauguration. (paragraph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ennedy speaks of the oath he took as well as our forefather. (paragraph 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mises the world that he will do whatever it takes to help each nation a high level of freedom. (paragraph 5 and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athos (emotional appe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ur hands have the power of great destruction and the ability to solve problems. (paragraph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eir of that first nation”….”Let the word go forth from this time a place” (paragraph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a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oviet Union and US are wasting money and time on making weapons to destroy all life. (paragraph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ag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Now we as Americans have a call to service and our nations final success and failures lies within our generations. (paragraph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rotect our nation from war and battle all common struggles. (paragraph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Not many other generations have the opportunity to serve their nation in its greatest time of need. (paragraph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ogos (rea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e will preserve freedom by having all the free nations unite. (paragraph 7 and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9:47:40Z</dcterms:created>
  <dc:creator> </dc:creator>
  <dc:description/>
  <dc:language>en-US</dc:language>
  <cp:lastModifiedBy>aps09.turnsham</cp:lastModifiedBy>
  <dcterms:modified xsi:type="dcterms:W3CDTF">2008-04-17T14:27:41Z</dcterms:modified>
  <cp:revision>8</cp:revision>
  <dc:subject/>
  <dc:title>John F Kennedy Inaugural Address</dc:title>
</cp:coreProperties>
</file>